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671175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5640" y="754380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19920" y="7467480"/>
            <a:ext cx="1233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8443C7F6-E34D-4417-A63E-3CDAB3CB8BA3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1200" y="7543800"/>
            <a:ext cx="307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03473B35-4236-4522-BF9C-D92787BE290E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067112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763120" y="650880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914400"/>
            <a:ext cx="10669680" cy="444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2680" y="380880"/>
            <a:ext cx="151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11.Nov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724068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56760" y="4648320"/>
            <a:ext cx="175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  <a:ea typeface="宋体"/>
              </a:rPr>
              <a:t>www.huawei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533520" y="318960"/>
            <a:ext cx="960300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533520" y="1872360"/>
            <a:ext cx="960300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  <a:p>
            <a:pPr lvl="1" marL="457200" indent="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00120" y="1571760"/>
            <a:ext cx="45468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AMI Model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in SI Simulation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87400" y="3319560"/>
            <a:ext cx="39538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Next LT Medium"/>
              </a:rPr>
              <a:t>November 11,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Next LT Medium"/>
              </a:rPr>
              <a:t>Asian IBIS Summit, Shanghai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1800" y="4432320"/>
            <a:ext cx="25930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Next LT Medium"/>
              </a:rPr>
              <a:t>Guan T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Next LT Medium"/>
              </a:rPr>
              <a:t>guantao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14480" y="1913040"/>
            <a:ext cx="3811680" cy="241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622840" y="1890720"/>
            <a:ext cx="3745080" cy="2413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942840" y="4721400"/>
            <a:ext cx="4030920" cy="2431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527800" y="4722840"/>
            <a:ext cx="3838320" cy="2432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27200" y="15526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64280" y="15526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8840" y="44323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35920" y="44323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71560" y="3424320"/>
          <a:ext cx="9072720" cy="1800000"/>
        </p:xfrm>
        <a:graphic>
          <a:graphicData uri="http://schemas.openxmlformats.org/drawingml/2006/table">
            <a:tbl>
              <a:tblPr/>
              <a:tblGrid>
                <a:gridCol w="2808360"/>
                <a:gridCol w="2867040"/>
                <a:gridCol w="3397320"/>
              </a:tblGrid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pattern                Channe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Height (m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Width (U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JPAT(8B/10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871560" y="1623960"/>
          <a:ext cx="9072720" cy="1803600"/>
        </p:xfrm>
        <a:graphic>
          <a:graphicData uri="http://schemas.openxmlformats.org/drawingml/2006/table">
            <a:tbl>
              <a:tblPr/>
              <a:tblGrid>
                <a:gridCol w="2808360"/>
                <a:gridCol w="2868480"/>
                <a:gridCol w="339588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pattern                Chann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Height (m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Width (U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JPAT(8B/10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71560" y="5224320"/>
          <a:ext cx="9072720" cy="1805040"/>
        </p:xfrm>
        <a:graphic>
          <a:graphicData uri="http://schemas.openxmlformats.org/drawingml/2006/table">
            <a:tbl>
              <a:tblPr/>
              <a:tblGrid>
                <a:gridCol w="2808360"/>
                <a:gridCol w="2868480"/>
                <a:gridCol w="339588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pattern                Channel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Height (m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Width (U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JPAT(8B/10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Highlight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00200" y="1552320"/>
            <a:ext cx="9315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MI model includes FFE, DFE and CDR. The model integrity is better. The encrypted Hspice Model always excludes the DFE and CD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t is feasible for users to do a large amount of bits simulation, and ISI effect is fully taken into consid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Users could set jitter parameters of Tx and Rx, so the jitter of Serdes could be considered..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MI model support calculating the coefficients of DFE and FFE automatically, and it could shorten the simulation cyc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rawback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38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Modeling method is complicated and no auxiliary tools helping generate the AMI model. Most IC vendors do not supply AMI model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Users cannot evaluate the simulation results, owing to lack of the mask specification. So it is difficult for users to judge whether the serial link meets the requireme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t is impossible for users to judge the accuracy of AMI models and to improve i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ome IC vendors suggest that the simulation is a reference for design and cannot be used for a final deci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he AMI model, used in the previous example, is a vendor-specific format model, not based on IBIS. The interoperability is not goo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ith current AMI model, users couldn’t analyze the contribution of clock jitter and power noise, owing to lack of JTF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(jitter transfer function)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nd PNS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(power noise sensitivity)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MI Model in Serial Link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rial Link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xperiencing AMI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ighlights and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LL Model and 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JTF and P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Backgroun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00200" y="1552680"/>
            <a:ext cx="924408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 the current product, clock jitter and power noise are important contributions of BER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ccording to our survey, it is feasible to construct PLL model through measuremen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t is a good solution to add the JTF and PNS into the AMI model, This could improve the integrity of Serdes mod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Users could use the solution to estimate the link jitter contributed by the jitter of reference clock and power noise of the PL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hun xing Huang gives an initial idea on analyzing PLL model in the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</a:rPr>
              <a:t>Serial Link Analysis and PLL Model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t Asian IBIS Summit 2007, Beijing. The engineers of Huawei continue a research on constructing the PLL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TF and PN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8523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7680" indent="-3376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Jitter Transfer Function (JTF) is defined as the ratio of output data jitter and reference clock jitter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58840" y="2416320"/>
                <a:ext cx="3240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function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tte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tte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cloc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158840" y="3878280"/>
                <a:ext cx="2808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sensitivit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tte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5560" y="3063960"/>
            <a:ext cx="852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 marL="337680" indent="-3376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ower Noise Sensitivity (PNS) is defined as the ratio of output data jitter and power no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09760" y="4863960"/>
            <a:ext cx="1800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01760" y="49370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09760" y="4863960"/>
            <a:ext cx="936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9760" y="6087960"/>
            <a:ext cx="865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1"/>
          </p:cNvCxnSpPr>
          <p:nvPr/>
        </p:nvCxnSpPr>
        <p:spPr>
          <a:xfrm flipH="1">
            <a:off x="1158120" y="637668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endCxn id="193" idx="1"/>
          </p:cNvCxnSpPr>
          <p:nvPr/>
        </p:nvCxnSpPr>
        <p:spPr>
          <a:xfrm>
            <a:off x="1230480" y="5258880"/>
            <a:ext cx="1080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230480" y="60721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3" idx="3"/>
            <a:endCxn id="194" idx="3"/>
          </p:cNvCxnSpPr>
          <p:nvPr/>
        </p:nvCxnSpPr>
        <p:spPr>
          <a:xfrm flipH="1">
            <a:off x="3174120" y="5261040"/>
            <a:ext cx="72360" cy="1116720"/>
          </a:xfrm>
          <a:prstGeom prst="bentConnector3">
            <a:avLst>
              <a:gd name="adj1" fmla="val -3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3429360" y="5153040"/>
            <a:ext cx="3934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gger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72280" y="4863960"/>
            <a:ext cx="180000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8280" y="49370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72280" y="4863960"/>
            <a:ext cx="936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72280" y="6087960"/>
            <a:ext cx="865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1"/>
          </p:cNvCxnSpPr>
          <p:nvPr/>
        </p:nvCxnSpPr>
        <p:spPr>
          <a:xfrm flipH="1">
            <a:off x="5120640" y="637668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endCxn id="202" idx="1"/>
          </p:cNvCxnSpPr>
          <p:nvPr/>
        </p:nvCxnSpPr>
        <p:spPr>
          <a:xfrm>
            <a:off x="5192280" y="5258880"/>
            <a:ext cx="1080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5192640" y="60721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2" idx="3"/>
            <a:endCxn id="203" idx="3"/>
          </p:cNvCxnSpPr>
          <p:nvPr/>
        </p:nvCxnSpPr>
        <p:spPr>
          <a:xfrm flipH="1">
            <a:off x="7136640" y="5261040"/>
            <a:ext cx="72360" cy="1116720"/>
          </a:xfrm>
          <a:prstGeom prst="bentConnector3">
            <a:avLst>
              <a:gd name="adj1" fmla="val -3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7391520" y="5153040"/>
            <a:ext cx="3934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gger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22480" y="5295960"/>
            <a:ext cx="142920" cy="936720"/>
          </a:xfrm>
          <a:custGeom>
            <a:avLst/>
            <a:gdLst>
              <a:gd name="textAreaLeft" fmla="*/ 19080 w 142920"/>
              <a:gd name="textAreaRight" fmla="*/ 123840 w 1429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11920" y="5295960"/>
            <a:ext cx="142920" cy="936720"/>
          </a:xfrm>
          <a:custGeom>
            <a:avLst/>
            <a:gdLst>
              <a:gd name="textAreaLeft" fmla="*/ 19080 w 142920"/>
              <a:gd name="textAreaRight" fmla="*/ 123840 w 1429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03200" y="55846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J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558468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TF and PN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4411" t="3653" r="5866" b="0"/>
          <a:stretch/>
        </p:blipFill>
        <p:spPr>
          <a:xfrm>
            <a:off x="727200" y="2128680"/>
            <a:ext cx="4032000" cy="3232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2759" t="5504" r="6208" b="0"/>
          <a:stretch/>
        </p:blipFill>
        <p:spPr>
          <a:xfrm>
            <a:off x="5479920" y="2271600"/>
            <a:ext cx="3959280" cy="3090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80988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7560" y="5403960"/>
            <a:ext cx="3836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Jitt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56280" y="5369040"/>
            <a:ext cx="3836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ower Noise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0200" y="1479600"/>
            <a:ext cx="960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MS PGothic"/>
              </a:rPr>
              <a:t>PLL characteristics are derived by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" y="5945040"/>
            <a:ext cx="9604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MS PGothic"/>
              </a:rPr>
              <a:t>The measurement environment is the IBM Serdes, supporting 2.0Gbps~3.2Gb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TF and PNS Applic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hen jitter transfer function is known, jitter introduced from input clock could be calculat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Jitter_out(f) = transfunction(f)*jitter_clock_in(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hen power noise sensitivity is known, jitter introduced from power noise could be calculat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Jitter_out(f) = powersensitivity(f)*power_noise(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ccording to the description above, users could analyze the output jitter introduced by reference clock jitter and power noise, and optimize the power of PL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t is time for us to consider the PLL model in the SI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uggestion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9604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Users will feel more convenient, if AMI model could provide the following featur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ome keywords of eye mask specification, such as eye height and width, which is used to estimate simulation results, should be provided in the AMI mode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hecklist for AMI model is necessary to guarantee AMI model qualit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dding the jitter transfer function and power noise sensitivity in AMI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560" y="1552680"/>
            <a:ext cx="5904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AMI Model in Serial Link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宋体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宋体"/>
              </a:rPr>
              <a:t>Serial Link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宋体"/>
              </a:rPr>
              <a:t>Experiencing AMI Sim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宋体"/>
              </a:rPr>
              <a:t>Highlights an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PLL Model and 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JTF and P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Backgroun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9459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enerally, the development of serial link SI simulation is left behind the Serdes develop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t is difficult to acquire the chip model for SI simulation. For data rate of 6Gbps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＋，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rdes encrypted Hspice Model is not availabl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ven with some private simulation tools and models from chip vendors, a high confident result is difficult to get through simula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Now, evaluating the serial link system through measurement is normally used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However only measurement is not enough, and simulation is still an important wa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BIS 5.0 was ratified at 29th August, 2008, which provides users a good solution for serial link simula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BIS committee makes a great progress on Serdes model and serial link simula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Backgroun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5400" y="1407960"/>
            <a:ext cx="90741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44880" indent="-344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IBIS-AMI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onstructing sub-components in transmitter with AMI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The channel is characterized with impulse respon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onstructing sub-components in the receivers with AMI model, including CD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roviding a process on how to use AMI mod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58840" y="4000680"/>
            <a:ext cx="298152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51560" y="4000680"/>
            <a:ext cx="391320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3360" y="561348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33360" y="538488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33360" y="568944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33360" y="546084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33360" y="553716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3360" y="576576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33360" y="584208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1320" y="4533840"/>
            <a:ext cx="3892680" cy="1568520"/>
          </a:xfrm>
          <a:prstGeom prst="rect">
            <a:avLst/>
          </a:prstGeom>
          <a:solidFill>
            <a:srgbClr val="33cc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0280" y="5484960"/>
            <a:ext cx="174600" cy="658800"/>
          </a:xfrm>
          <a:custGeom>
            <a:avLst/>
            <a:gdLst/>
            <a:ahLst/>
            <a:rect l="l" t="t" r="r" b="b"/>
            <a:pathLst>
              <a:path w="187" h="434">
                <a:moveTo>
                  <a:pt x="187" y="0"/>
                </a:moveTo>
                <a:lnTo>
                  <a:pt x="103" y="0"/>
                </a:lnTo>
                <a:lnTo>
                  <a:pt x="103" y="434"/>
                </a:lnTo>
                <a:lnTo>
                  <a:pt x="0" y="43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80320" y="5297400"/>
            <a:ext cx="378000" cy="854280"/>
          </a:xfrm>
          <a:custGeom>
            <a:avLst/>
            <a:gdLst/>
            <a:ahLst/>
            <a:rect l="l" t="t" r="r" b="b"/>
            <a:pathLst>
              <a:path w="91" h="563">
                <a:moveTo>
                  <a:pt x="0" y="0"/>
                </a:moveTo>
                <a:lnTo>
                  <a:pt x="0" y="563"/>
                </a:lnTo>
                <a:lnTo>
                  <a:pt x="91" y="56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33360" y="5308560"/>
            <a:ext cx="8153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17800" y="5013360"/>
            <a:ext cx="614160" cy="619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ransmi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0080" y="5022720"/>
            <a:ext cx="777960" cy="6192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5560" y="5022720"/>
            <a:ext cx="1368360" cy="6192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yste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5862600"/>
            <a:ext cx="583920" cy="403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24880" y="5114880"/>
            <a:ext cx="623880" cy="4809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5400000">
            <a:off x="1017720" y="5189400"/>
            <a:ext cx="1436400" cy="376560"/>
          </a:xfrm>
          <a:custGeom>
            <a:avLst/>
            <a:gdLst>
              <a:gd name="textAreaLeft" fmla="*/ 315720 w 1436400"/>
              <a:gd name="textAreaRight" fmla="*/ 1120680 w 1436400"/>
              <a:gd name="textAreaTop" fmla="*/ 82800 h 376560"/>
              <a:gd name="textAreaBottom" fmla="*/ 293760 h 3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ia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5560" y="5022720"/>
            <a:ext cx="779400" cy="6192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54840" y="5045040"/>
            <a:ext cx="615960" cy="5223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ceiv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397920" y="5148720"/>
            <a:ext cx="441360" cy="297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2871720" y="5178600"/>
            <a:ext cx="441360" cy="257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9600" y="40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7920" y="40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82960" y="6664320"/>
            <a:ext cx="55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Picture reference from “SerDes Modeling and IBIS” at DAC_2007_IBIS_Sum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00200" y="1552320"/>
            <a:ext cx="665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mulation setu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BM AMI model includes 3-tap Tx FFE, 5-tap Rx DF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DR behavior model embedded in RX model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11.0Gbps data rate and one million bits simulat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x and Rx package models includ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hree different backplane channels us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hree data patterns: CJPAT, PRBS 7, PRBS 3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4840" y="4576680"/>
            <a:ext cx="7559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77310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hannel descrip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hannel 1 : 10.72inch FR4 + 25inch Rogers Backplane + 2 conn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hannel 2 : 23inch N4000+20inch FR4 + 2 conn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hannel 3 : 30inch FR4 + 2 connecto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24280" y="4216320"/>
            <a:ext cx="2806560" cy="1609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48640" y="4257720"/>
            <a:ext cx="2734920" cy="156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871560" y="4216320"/>
            <a:ext cx="2735280" cy="1589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30480" y="5737320"/>
            <a:ext cx="21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Chann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920" y="5738760"/>
            <a:ext cx="21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Chann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0" y="572760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Chann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00" y="1479600"/>
            <a:ext cx="4752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marL="334080" indent="-334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AMI Model Introduction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: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"hss11_cu08.dml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isIOCe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deal_50term_pulldow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Macro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MacroType TDiffIO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NumberOfTerminals 8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SubCircuits “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hss11_cu08_rx_d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am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mhssrx_103_win "E:\IBMSerdes\dll_lib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is 1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ndfe 5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dfelim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0.5 0.25 0.125 0.125 0.125 )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d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0 0 0 0 0 )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rotlin "E:\IBMSerdes\include_files\pr_fast.dat" ) ) 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95920" y="1479600"/>
            <a:ext cx="4311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hss11_cu08_tx_f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am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mhsstx_104_win "E:\IBMSerdes\dll_lib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is 1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nffe 3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rffe 1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cffe 1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qffe 6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lf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0.25 1.0 0.5 ) ) )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560" y="3929040"/>
            <a:ext cx="23767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51200" y="2921040"/>
            <a:ext cx="165600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MI Rx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0" idx="6"/>
          </p:cNvCxnSpPr>
          <p:nvPr/>
        </p:nvCxnSpPr>
        <p:spPr>
          <a:xfrm flipV="1">
            <a:off x="3032280" y="3494880"/>
            <a:ext cx="707040" cy="794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5622840" y="1479600"/>
            <a:ext cx="2017800" cy="86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59920" y="1552680"/>
            <a:ext cx="1512720" cy="57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MI Tx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3" idx="6"/>
            <a:endCxn id="144" idx="1"/>
          </p:cNvCxnSpPr>
          <p:nvPr/>
        </p:nvCxnSpPr>
        <p:spPr>
          <a:xfrm flipV="1">
            <a:off x="7640640" y="1840680"/>
            <a:ext cx="72000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983200" y="59450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This is the IBM Serdes AMI model supporting 11Gb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9840" y="1984320"/>
            <a:ext cx="4203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**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Analysis Report*****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 Sep 02 09:45:44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Input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t period                  = 9.09090909091e-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f drivers               =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f taps                  = 1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p optimization            = 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mulus configuration      = poly3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coding              = N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 Directory              =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IBMSerdes/result_channel/char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Control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f bits simulated        = 1000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 Delay           = 4.4e-0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ye Measurement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ye height                  = 91 mV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I at max height        = 0.48 U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ye jitter                  = 0.36 U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79920" y="1984320"/>
            <a:ext cx="4176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BER Repor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logBER     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9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Simulation Input Paramet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Simulation Type  =  Time Domain Channel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Random Jitter = 0.44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Periodic Jit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Magnitude = 0.05 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Freq (cycles per ui) = 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Frequency Offset = 0 p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Duty Cycle Distortion = 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560" y="1407960"/>
            <a:ext cx="25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1000"/>
          </a:bodyPr>
          <a:p>
            <a:pPr marL="252360" indent="-2523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Report S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79920" y="2487600"/>
            <a:ext cx="1871640" cy="20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7920" y="1913040"/>
            <a:ext cx="187164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ye wid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under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bit erro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7"/>
            <a:endCxn id="152" idx="1"/>
          </p:cNvCxnSpPr>
          <p:nvPr/>
        </p:nvCxnSpPr>
        <p:spPr>
          <a:xfrm flipV="1">
            <a:off x="7076880" y="2344320"/>
            <a:ext cx="851400" cy="450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727200" y="5872320"/>
            <a:ext cx="2952720" cy="1441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98840" y="5584680"/>
            <a:ext cx="144144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ye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/>
          <p:nvPr/>
        </p:nvCxnSpPr>
        <p:spPr>
          <a:xfrm flipV="1">
            <a:off x="3606840" y="6087600"/>
            <a:ext cx="838800" cy="306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 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39920" y="47592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y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35920" y="4753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Bath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79920" y="1951200"/>
            <a:ext cx="439272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8480" y="1913040"/>
            <a:ext cx="4319640" cy="2846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42840" y="5224320"/>
            <a:ext cx="7921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JPAT-- b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RBS 7-- c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RBS 31–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ases of channel 2 and channel 3 are listed in the following page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7200" y="16239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80280" y="16081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02:18Z</dcterms:created>
  <dc:creator>Interbrand</dc:creator>
  <dc:description/>
  <dc:language>en-US</dc:language>
  <cp:lastModifiedBy>Bob Ross</cp:lastModifiedBy>
  <dcterms:modified xsi:type="dcterms:W3CDTF">2008-10-27T19:38:11Z</dcterms:modified>
  <cp:revision>277</cp:revision>
  <dc:subject/>
  <dc:title>PowerPoint Presentation</dc:title>
</cp:coreProperties>
</file>